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BCC-D39C-40ED-8F24-D40367C2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C26-FF30-4472-8227-77ED806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B51-D0F2-4BB4-BD3C-55BE377F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BF5-71E7-4F8A-B013-39BC58C4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B8C9-B25F-4D0C-A1C1-A51E3F8E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699-BE46-4719-9183-6EF7817F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4C6-D17F-4936-9C9D-E7B3778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17E3-9F75-4B43-AA17-8B4F5FA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7234-0A92-42DE-9EDB-0880F4B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A13D-D768-45F9-A4FD-37BA506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5523-301A-4F61-AB5F-595C51E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D1A-6948-4492-8BF4-273D943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73FF-14A1-4DF2-BED8-0C68B7E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5A3-4546-48FB-9A2D-D87E1FA9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C03-6125-442C-A09C-BC0FA012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97C-6EC7-4807-BACB-24464C85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C8C-78A1-446F-9EAF-59019D3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589D-44FC-4B5B-BC49-5DE64D3F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1109-4C16-488B-A8F2-4AE51FD0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C6E1-E256-4E27-ADD2-D9A4AA9C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335A-81D7-466A-B69F-8ABC34F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65B7-FAFC-4974-BEC9-DF68559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04A-97E6-46CF-8921-CE852B0C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DBDD-8A50-49A7-98E4-26CE651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FE87-FB45-4BFA-A108-D4CA0DE6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10F9-1AB8-4D71-B7F3-223598B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6166-EF56-4A7F-9923-4BC3281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3B53-EB8B-4A05-ADA5-663589A7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7067-E2E6-4AF9-9E7D-0CB1F530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1CEA-EB07-490E-8C20-89397278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7889-FB32-4748-A169-022C259F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EE51-BED6-422D-B3DB-4DD4CBA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B727-7EF2-46C4-AFAF-A887076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C22-4F93-4C58-B5A8-91BC213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8FA4-2373-4F04-9342-683D4FCA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9A7E-74F3-4B32-BACF-7FE5304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6717-188A-4DB9-9A6B-0C42011C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3317-6410-4DD5-8F48-DEDDCB4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9F71-1C95-43E3-8F72-9A3E2A7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4A59-A9C7-4735-8614-EE6D952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9E51-65CF-4F9B-87A9-70D6374E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1CFD-FAAA-4A49-8042-9516FDE3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5CED9-FBCF-442C-9B51-099FF4E4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6F4E-DA4C-47A6-82DF-2774C08D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235-CF4B-45C9-879E-08461BD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CEB9-5825-4203-996F-3DE50F2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50FE-0845-4074-ACBF-ADCABDD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E013-D39A-42C8-9D16-577729A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82D1-7633-4B89-BC68-C679A875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2DF66-D653-4B99-BF10-510D6AD6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4522E-4BB5-48C2-8A78-896BF9C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2927-5404-4ACF-99CE-B455116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27C0-8609-454A-A0C5-7BA7B95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DD8A-BED4-4BD3-A67A-CB6707C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1FE4-AFF0-4547-A12E-FE0E993C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46E-E6C3-4056-9967-8584931A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E65E-3CDC-49A5-9FAB-E9B472A5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8652A-7A01-47B8-91DA-FB35260A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6370-A115-412F-A5D3-74E16074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0DE4B-25AF-4269-BCD6-20B5933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E4E1-1C52-4ABA-9E8E-B34047B4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FCA2C-29DF-488B-8BC6-BFBCE880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B521-659C-4C12-8A2D-7924258A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2F69-54F3-4A11-BA1F-C05B3DF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BD2F-D948-4A99-9304-C951BF74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DA95-73E9-48B5-BC1F-B844606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DE3-2168-4817-8D1A-456F178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BF4A-C0D7-44C7-B0BE-F4AEACF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FE19-D734-4C66-AE6E-FDBAD439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B234-7E3F-4971-A7F6-66E2C5C1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B0DD-99E7-48DC-8B23-4B57B0A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79732-2C25-4A17-8ACE-66D5AD1C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2525-5D84-4FCF-9B25-B85BD3B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51CC8-6C71-42E5-85EB-0570659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4E7D-D39D-4039-9145-8670310B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7480-80CA-4B7B-921A-A5B099C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D87C-0B2D-43FF-8630-6847A03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409-9055-4C89-AA69-7C07EFA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B654-E0B4-4E7D-8CEC-C56D8DB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A585-E130-4543-9BFF-3E16224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27DD9-E8A8-433C-B2CB-7F47831F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E91B4-A014-4842-992F-E2456FC9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3160C-B475-43A8-80BC-1558B8BE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EFA9E-A0A0-456B-86D3-C4B8AF57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72DB-08F9-4656-ABA1-AE40C5F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38D1-9054-44AC-A033-CB0B0614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6F412-FBBD-4129-B75B-B33DF73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E02AC-7D95-46E1-BAF8-9AF9791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BBA-354A-4396-9EF9-7CDECAE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5D0E-B295-4E86-9B39-2246AD2E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AA0C-9FC7-4470-859A-718ACDD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A633-A227-4C37-9235-175D687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C0644-1EE2-4FB2-975E-EFD5A1E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1EDA-1B1F-4C77-B116-DE48F43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3D50-F9AD-4DF4-9DB8-117B3968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C637-5642-47F3-9454-E193B087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486-A83B-43D7-A325-1EC3386264E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D19-15D8-4227-82EE-0954898FD473}" type="slidenum">
              <a:rPr b="0" lang="en-C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7D5D-DF04-4C56-B191-BA62B0D3C9F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005-E270-4797-BBE9-C69513A3BD89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C06-B6C9-4C80-A7EA-7F1B73EA577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ADF-9089-4259-AA53-A7288167928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C8E-6465-4074-93CC-81506A25CEC8}" type="slidenum"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EAF-D959-4BC5-94F3-B3DDBF3E3FA4}" type="slidenum">
              <a:rPr b="0" lang="en-C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682560" y="66600"/>
            <a:ext cx="8175600" cy="18846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mographers John Bongaarts and Robert Potter studied the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proximate determinants of 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ological, and behavioural factors through which social, economic and environmental variables affect 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at they found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omen on average bear two childr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187280" y="3193920"/>
            <a:ext cx="70232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Generally married in their 20’s and the first child comes two years la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econd child was spaced approximately two to three years apa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s used to delay the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econd concep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               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used to avoid further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rth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2857680" cy="2089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1262160" y="5005440"/>
            <a:ext cx="26701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ir work concluded that norms are affected by age at marriage, frequency of intercourse, age of first menstruation, use and effectiveness of contracep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women in Canada only get 6-8 weeks of maternity lea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others return to work when infants are quite young and usually stop breast feed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studies show that infants benefit greatly from breast milk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t’s the only food that i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Loaded with the nutrie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at infants ne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mmunizes infants agains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any diseas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5810400" y="2205000"/>
            <a:ext cx="3333600" cy="2592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5810400" y="4741920"/>
            <a:ext cx="3333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mproved digestion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ptimal growth of th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nfants body syst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15120" y="1844640"/>
            <a:ext cx="3267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reast feeding rates are higher among older mothers and those with higher education and income leve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of the most common reasons for women to stop breastfeeding is that they had to return to 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rends from Developed N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rends from Developing N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irth R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ow does breast feeding affect Fecundit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en breast feeding is done on demand, and no supplementary food is given, nursing has a contraceptive effect on the wom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reast feeding results in the release of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prolactin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Prolactin- a hormone that regulates the production of progesterone and inhibits ovul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First menstrual peri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veloping and Developed Countr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arlier Marriages, longer fertility yea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nthropologists have found cultural norms related to fertility are not only shaped by parents but also by government policies and program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y can impose policies and programs to increase or decrease birth r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X Russ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Low birth r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Debating banning abortions and imposing a childlessness ta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Chi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igh birth r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couple one child polic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exual Education in schoo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asier access to contraceptiv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 couple is considered to be infertile when they have been trying to conceive for over one year without succe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Estimated that in Canada 1 in 5 couples are inferti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re seems to be a host of physical and environmental factors linked to infertil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One of these is the rapid spread of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640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In particular chlamydia which is a symptomless condition which often results in the blockage of the female’s fallopian tub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nother factor 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207280" cy="44766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3" descr=""/>
          <p:cNvPicPr/>
          <p:nvPr/>
        </p:nvPicPr>
        <p:blipFill>
          <a:blip r:embed="rId4"/>
          <a:stretch/>
        </p:blipFill>
        <p:spPr>
          <a:xfrm>
            <a:off x="109440" y="1725480"/>
            <a:ext cx="67420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drop in sperm counts has been linked to high levels of estrogen, i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24792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3" descr=""/>
          <p:cNvPicPr/>
          <p:nvPr/>
        </p:nvPicPr>
        <p:blipFill>
          <a:blip r:embed="rId3"/>
          <a:stretch/>
        </p:blipFill>
        <p:spPr>
          <a:xfrm>
            <a:off x="-384120" y="3224160"/>
            <a:ext cx="5962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High levels of estrogen are believed to be due to small amounts of women’s oral contraceptives finding their way into the water syst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By products of the chemicals also found in some food packaging and pla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Also a growing trend for women to delay motherhood until they get their careers establish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More than a third of all babies born in Canada are born to women in their thirt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32:45Z</dcterms:created>
  <dc:creator>Jason</dc:creator>
  <dc:description/>
  <dc:language>en-US</dc:language>
  <cp:lastModifiedBy>Jason</cp:lastModifiedBy>
  <dcterms:modified xsi:type="dcterms:W3CDTF">2011-01-04T14:33:23Z</dcterms:modified>
  <cp:revision>11</cp:revision>
  <dc:subject/>
  <dc:title>6.2 Relationship Between Fecundity and Culture</dc:title>
</cp:coreProperties>
</file>